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A168-9C85-4773-A45F-DA4D0D51E6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last around 1 hour. If learners do not have access to computers, the teacher will need to print out copies of both the Easier English and the original article beforeh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557D-EB4F-4CB3-8C07-795E868E768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in pairs /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ould guide learners towards discussing all reading skills including lexical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F446-E703-4CED-86FA-BB0F5252943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briefly before they read to predict ans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2364-DC1D-49AA-999B-72FC62C2AB7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a paper copy of the text, or learners log on to a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will need to scan for answers to questions 1 and 2, and skim to answer question 3: 3 minu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4F84-8E12-498F-9E25-DE119B97E73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copies of the original version, or learners can log onto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5BD2-D423-427B-843D-16B743BED21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ompare Easier English and original articles : just this paragraph, or the whole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CA97-23A3-409F-AC49-BBEAB29E162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task could be divided up eg. each learner finds 3 interesting new phrases / words to sh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36B5-4DCC-4CEE-A915-CE70E29250B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discuss the answers, then whole class feedback. Learners should see how much easier it is to read the original article after reading the simplified version and developing vocabulary fir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50E2-9CA6-4E72-ACE8-E4A1F87DB75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983-4FFA-4DDA-B1E5-A0E3975B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C51-360E-4F92-9834-FCC1F91D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E4D-366F-4F34-8E80-BF8EC51A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C01-6112-45DF-9404-295DA430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B9D-4D88-4FB4-A7A3-A706D7BB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72B-4A30-4356-B800-6D7A3254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1FD-4AC7-4727-A20F-07980981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928-C9AF-4A6C-85AF-4A200EB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459-A017-4E3E-A34E-11F015B0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C03-7A54-4217-A02C-D1B9E78A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5D2-64D6-4480-8DBD-68DE0222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D91-3990-484D-ABC5-FEE880F6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9A29-76F5-40C9-9FE1-21541E7EA13D}" type="slidenum">
              <a:rPr b="0" lang="en-GB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20840" y="1773360"/>
            <a:ext cx="8229600" cy="373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5013000"/>
            <a:ext cx="813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Internationalist Easier English Ready Less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pper Intermedi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708360" y="476280"/>
            <a:ext cx="4896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good is your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could you read better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stops you reading more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problems do you have when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eewiki.newint.org/index.php/Working_like_a_hor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nd the answers and discus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ook at the original article - you can click on the link at the bottom of the Easier English article, or go t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te down all the words/phrases you are not sure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5796000" y="4869000"/>
            <a:ext cx="287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4114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About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a billion poor people in the world rely on animals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live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, for transport and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earn their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. But many people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don’t have the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for veterinary care</a:t>
            </a: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171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Around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a billion of the world’s poor rely on animals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for subsistenc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, transport and to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generate an incom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But many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cannot afford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veterinary care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ook Antiqua"/>
              </a:rPr>
              <a:t>Share, compare and list new vocabulary and phras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340000" y="3151080"/>
            <a:ext cx="5259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95280" y="1341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w read the original article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answer these ques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1/ Why do SPANA treat animals for free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2/ Why was the donkey important to the Moroccan boy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3/ Why can it be more serious if cows are ill than if children are ill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126792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ook at the wiki site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http://eewiki.newint.org/index.php/Main_Page       and find an interesting artic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Do the same thing again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Easier English artic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original (click the link at the bottom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earn the new vocabulary and phrases by comparing both artic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2:15:54Z</dcterms:created>
  <dc:creator>windows 7 image</dc:creator>
  <dc:description/>
  <dc:language>en-US</dc:language>
  <cp:lastModifiedBy>Linda Ruas</cp:lastModifiedBy>
  <dcterms:modified xsi:type="dcterms:W3CDTF">2013-09-08T15:12:45Z</dcterms:modified>
  <cp:revision>6</cp:revision>
  <dc:subject/>
  <dc:title>PowerPoint Presentation</dc:title>
</cp:coreProperties>
</file>